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D90-97C9-4319-B85B-57D7BFF1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A11-ADD8-425F-9582-6CA8670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946-34A7-44F2-B986-720E646F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0CA-C477-482B-BA20-F6F8A684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FE5-93A6-4081-81D5-6E2E677F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25E5-43CF-4AF2-BCBB-FF43E3D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185-CF21-428E-90D3-BFBAA842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0B56-49B7-4259-B09C-489EC793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D212-F964-4E1B-BF9A-8B7510E2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516-072A-40B2-9DA1-E19CF41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B041-0DA9-4BEF-9DB5-8B3B004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E90-8BC8-44BD-BFB8-B4A2302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E5D1-7899-407F-8039-50BDFBB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CF02-4E3C-4F6C-81A4-FB23E2A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3E8-036B-4190-B9A2-7671D8F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2B67-EF3E-4F9B-B6BD-34A3D5DB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8FE-EEC5-41F0-8662-0553761A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7DC-662F-4EF6-AD96-C7DE4F19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6EA-2CC1-4F10-817B-0EE29029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37A-AB37-4893-B5D0-0210C3D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205-F080-4363-BAA0-23C3F81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5C4-44A5-47A7-8C2A-54BBF3DF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565-2C27-4989-880E-7129EA1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03C-1150-4877-96C7-A16BAB0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9819-293D-4BC7-B226-BD37B794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FF3-11E5-401B-9F86-1DCA6802057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am Awesome += 5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960"/>
            <a:ext cx="7924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PICo Design Presenta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ouglas Grosvenor, Terence Crumbley, Jeffrey Gaith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193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484360" y="1125360"/>
            <a:ext cx="4221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Sig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lue – In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range – Out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703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ord Lin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Rectangle 7" descr=""/>
          <p:cNvPicPr/>
          <p:nvPr/>
        </p:nvPicPr>
        <p:blipFill>
          <a:blip r:embed="rId2"/>
          <a:stretch/>
        </p:blipFill>
        <p:spPr>
          <a:xfrm>
            <a:off x="0" y="3362400"/>
            <a:ext cx="9144000" cy="349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197000"/>
            <a:ext cx="540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6 to 6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2478240" cy="558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1523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sting</a:t>
            </a:r>
            <a:br>
              <a:rPr sz="4400"/>
            </a:b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On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rner Simul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ur Bitcell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C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ased on extracted layou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Tw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ull word, read/wr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tive/Inactiv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ifferent wor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of Read/Writ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709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nalys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re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rea*(Delay^2)*Pow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67280" y="1557360"/>
          <a:ext cx="4681080" cy="3286080"/>
        </p:xfrm>
        <a:graphic>
          <a:graphicData uri="http://schemas.openxmlformats.org/drawingml/2006/table">
            <a:tbl>
              <a:tblPr/>
              <a:tblGrid>
                <a:gridCol w="1835280"/>
                <a:gridCol w="28458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e11 mW*n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cel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4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M 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43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39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005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573200"/>
            <a:ext cx="8208720" cy="528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757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238400"/>
            <a:ext cx="6800760" cy="561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116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Enable Dec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2238480"/>
            <a:ext cx="8372160" cy="461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317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252440"/>
            <a:ext cx="7056360" cy="560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43640" y="549360"/>
            <a:ext cx="24732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490760"/>
            <a:ext cx="91440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262160"/>
            <a:ext cx="76424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488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ring problem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o S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w 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1 M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ong lifetim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^2 * Delay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igh spe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64 k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ncryption/Compression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 * Delay^2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32bit wo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2 words per r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64 row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4096 bit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6 blocks arr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rray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688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ck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1162080"/>
            <a:ext cx="74566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 Layou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 Cont’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ad/Write Signal System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ulse Generato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L Generat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ead/Write Signal Syste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>Doug</dc:creator>
  <dc:description/>
  <dc:language>en-US</dc:language>
  <cp:lastModifiedBy>labtemp</cp:lastModifiedBy>
  <dcterms:modified xsi:type="dcterms:W3CDTF">2007-12-06T19:02:52Z</dcterms:modified>
  <cp:revision>1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